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87F-C3C3-42AE-825B-472C18D0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2AB-8DB8-497B-93B8-CF56D08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63A-9250-457F-B43E-D0E3DBDF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A5C-15BC-42CE-A63D-45C455B7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9CEE-8BB2-450F-998A-3FD79A64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1EEE-497F-4419-B771-43B4F43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46E5-583C-4BB2-BFED-706CD485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EC5-88E1-4ACF-A1E6-78E151A6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71F8-F0D6-4C95-B651-D4A8000C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80AC-4D87-4FEC-A582-63A02EFC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1C9-E41F-4E94-AF62-AFB85B5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3A0-DE66-46CE-9064-1B5D96D5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96D-B289-4892-B54C-09E12F0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0373-C81E-4D69-A35D-6329243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1D97-9754-4292-BAA9-8F65BAA3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1E3-B5C2-46E0-8020-73D46989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4F9D-E4AD-48F4-827C-B4D2742E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289-A7D2-42C1-9DD4-4CF02F7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AC1-56EF-4ED2-A507-A93230A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8F3-F8CE-4331-AA4D-C314451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DE7-6B9C-4C45-A69F-B16C6FA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DB8-C1EF-4F1A-A50C-3734CF78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C19-A0B2-47A2-A6D6-2CD407EB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FF5-F55B-47A8-AE45-E00F218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03BC3-F35B-4443-B26D-BD3478BE6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0D025-DDB6-4FE4-83AF-79267D6FD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asser Arafat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ct 19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tt Gallo, Tabby Dods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0"/>
            <a:ext cx="5029200" cy="7559640"/>
          </a:xfrm>
          <a:custGeom>
            <a:avLst/>
            <a:gdLst>
              <a:gd name="textAreaLeft" fmla="*/ 360 w 5029200"/>
              <a:gd name="textAreaRight" fmla="*/ 5028840 w 50292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2467">
                <a:moveTo>
                  <a:pt x="6" y="0"/>
                </a:moveTo>
                <a:arcTo wR="6" hR="6" stAng="16200000" swAng="-5400000"/>
                <a:lnTo>
                  <a:pt x="0" y="32461"/>
                </a:lnTo>
                <a:arcTo wR="6" hR="6" stAng="10800000" swAng="-5400000"/>
                <a:lnTo>
                  <a:pt x="21594" y="32467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49200"/>
            <a:ext cx="4483080" cy="696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0"/>
            <a:ext cx="1828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143000"/>
            <a:ext cx="365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833400"/>
            <a:ext cx="32004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3880" y="30168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asser Ar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imate Peace Priz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9000" y="4592520"/>
            <a:ext cx="13716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 efforts to make peace in the middle ea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me 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24200" y="1371600"/>
            <a:ext cx="42624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me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32:24Z</dcterms:created>
  <dc:creator/>
  <dc:description/>
  <dc:language>en-US</dc:language>
  <cp:lastModifiedBy/>
  <cp:revision>1</cp:revision>
  <dc:subject/>
  <dc:title/>
</cp:coreProperties>
</file>